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8513-04B1-4832-839A-16435F2DA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1CA4-EE56-4FD1-998B-BCD38781D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04F6-6227-45CE-A04F-035DC830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084-7E33-41E6-9A81-F9A739F9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47B9-4AE5-4C1A-BF23-FB8EDF26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3BBE-39C9-4137-8148-F609CF6F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818-DAED-4E4A-ACE4-A0802FE0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D418-1E2A-451E-8EFE-97133382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C38-0AA9-4F6A-A396-E6A78383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4BEE-8115-4D4C-BD69-124AA0BC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91C-5E9A-47FF-B10F-3947AB69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50B9-C2FB-4D19-8EB7-7843EA48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56D1-597F-4FAC-A87E-D185947E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E85E-AE94-464D-B981-05F889B5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8682-2E6A-48E2-A351-5A010984E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1219320" y="533520"/>
            <a:ext cx="9144000" cy="9903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smah Ode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smah odeh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smah odeh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smah ode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ola!  ¿cómo estas?  ¿Qué hac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124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4395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iffan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429000"/>
            <a:ext cx="1752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nombre es Asmah Ode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vivo en New York Ci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tengo catorce añ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tengo cuatro hermanos.yo amo la music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645080"/>
            <a:ext cx="50472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95320" y="4645080"/>
            <a:ext cx="495360" cy="93816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ristain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i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5" descr="Photo on 2011-10-24 at 13.44.jpg"/>
          <p:cNvPicPr/>
          <p:nvPr/>
        </p:nvPicPr>
        <p:blipFill>
          <a:blip r:embed="rId3"/>
          <a:stretch/>
        </p:blipFill>
        <p:spPr>
          <a:xfrm>
            <a:off x="133200" y="5559480"/>
            <a:ext cx="495360" cy="938160"/>
          </a:xfrm>
          <a:prstGeom prst="rect">
            <a:avLst/>
          </a:prstGeom>
          <a:ln w="0">
            <a:noFill/>
          </a:ln>
        </p:spPr>
      </p:pic>
      <p:sp>
        <p:nvSpPr>
          <p:cNvPr id="88" name="TextBox 66"/>
          <p:cNvSpPr/>
          <p:nvPr/>
        </p:nvSpPr>
        <p:spPr>
          <a:xfrm flipH="1">
            <a:off x="1371600" y="51926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8" descr="Photo on 2011-10-21 at 13.53 #2.jpg"/>
          <p:cNvPicPr/>
          <p:nvPr/>
        </p:nvPicPr>
        <p:blipFill>
          <a:blip r:embed="rId4"/>
          <a:stretch/>
        </p:blipFill>
        <p:spPr>
          <a:xfrm>
            <a:off x="2114640" y="2530440"/>
            <a:ext cx="463320" cy="865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0" descr="Photo on 2011-10-21 at 13.39 #2.jpg"/>
          <p:cNvPicPr/>
          <p:nvPr/>
        </p:nvPicPr>
        <p:blipFill>
          <a:blip r:embed="rId5"/>
          <a:stretch/>
        </p:blipFill>
        <p:spPr>
          <a:xfrm>
            <a:off x="2189160" y="3273480"/>
            <a:ext cx="420840" cy="822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Photo on 2011-10-21 at 13.53 #2.jpg"/>
          <p:cNvPicPr/>
          <p:nvPr/>
        </p:nvPicPr>
        <p:blipFill>
          <a:blip r:embed="rId6"/>
          <a:stretch/>
        </p:blipFill>
        <p:spPr>
          <a:xfrm>
            <a:off x="2114640" y="3822840"/>
            <a:ext cx="463320" cy="86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3886200"/>
            <a:ext cx="47242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i yo puedo bailar. Mis hermanas y yo somos excelentes bailarinas.  ¿dónde cenamos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bailar. ¿Puedes  tú baila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8" descr="Photo on 2011-10-21 at 13.46.jpg"/>
          <p:cNvPicPr/>
          <p:nvPr/>
        </p:nvPicPr>
        <p:blipFill>
          <a:blip r:embed="rId7"/>
          <a:stretch/>
        </p:blipFill>
        <p:spPr>
          <a:xfrm>
            <a:off x="2127240" y="4492800"/>
            <a:ext cx="469800" cy="938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Bien ¿Y tú? Hablamos  contigo. ¿Qué quieres hacer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 Donde están tus hermanas?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9" descr="Photo on 2011-10-21 at 13.53 #2.jpg"/>
          <p:cNvPicPr/>
          <p:nvPr/>
        </p:nvPicPr>
        <p:blipFill>
          <a:blip r:embed="rId8"/>
          <a:stretch/>
        </p:blipFill>
        <p:spPr>
          <a:xfrm>
            <a:off x="2041560" y="5194440"/>
            <a:ext cx="463680" cy="865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llas están con nuestros padres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2" descr="Photo on 2011-10-21 at 13.46.jpg"/>
          <p:cNvPicPr/>
          <p:nvPr/>
        </p:nvPicPr>
        <p:blipFill>
          <a:blip r:embed="rId9"/>
          <a:stretch/>
        </p:blipFill>
        <p:spPr>
          <a:xfrm>
            <a:off x="1974960" y="6016680"/>
            <a:ext cx="469800" cy="9381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3" descr="Photo on 2011-11-29 at 13.54.jpg"/>
          <p:cNvPicPr/>
          <p:nvPr/>
        </p:nvPicPr>
        <p:blipFill>
          <a:blip r:embed="rId10"/>
          <a:stretch/>
        </p:blipFill>
        <p:spPr>
          <a:xfrm>
            <a:off x="838080" y="5486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2"/>
          <p:cNvSpPr/>
          <p:nvPr/>
        </p:nvSpPr>
        <p:spPr>
          <a:xfrm>
            <a:off x="779040" y="601992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lan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8:30:43Z</dcterms:modified>
  <cp:revision>114</cp:revision>
  <dc:subject/>
  <dc:title>Profile</dc:title>
</cp:coreProperties>
</file>